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1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C1F-E532-46E0-87AC-47EC54210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4230-B9F2-4482-81AD-4151203C2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6316-D42C-4607-A4AB-E07E1C94635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C6E-9412-4B9F-B11D-4681FC4E9BD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9A0-04CF-45EA-8F0D-E6E9DA6007F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E09-1EA1-4D17-A546-781198024DF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861-334E-4265-A178-20290DCED0F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D92-B2C8-4EDC-93F4-3F2AA1B788C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1AB-2C33-4AED-9837-3F2C56AC621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930-740A-41D2-8D69-B94AC0D189D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24A-2EEB-4EE0-9FA3-F31E4034762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d to make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 loves M&amp;Ms and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practice our Numbers with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 is going to be very helpful to us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F741-3B5D-4C09-A62D-13168DAA746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ADD-A0FC-4913-9039-F1B01ED1577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formatting so spanish comes first and then english …add symbols &amp;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B2E8-4C03-40B3-8969-597FA195F95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D2F-0F46-4BDC-833B-FBB1BBD5C09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9E7-239A-4825-9FF4-C88C7DF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EF8-A2AA-4B2C-B87F-DAABC88C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F4E-6EC2-4F13-A89B-C5255B41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664-C252-45C9-A5AA-D7D8112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CEA0-77D0-4274-951C-198319F8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9CE8-AF7C-4868-B785-C1A2277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0126-89E6-4E3C-B3BB-3028027E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BBE-BD1E-4184-9196-1A5B4762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6A2D-ACF4-4F7C-ABFB-0BA7C7FC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E3FD-DA3C-451C-8B53-B537358F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1F8-666B-4742-9DFB-95B1166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BB4-777C-48C0-BA19-96C9A14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F78-7739-41ED-BF66-7ECB691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BB3-27EA-409D-9C1A-5C93BE5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F41-8046-4C1B-A507-7DB761C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671-E4AF-4D0E-8FFF-2F8144C0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FDA-85A1-4448-989C-5519664E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DC7-F0F8-45D4-B21E-7166DDCA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70B-D1F4-46C8-829C-21A3F2D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B7C-EE7E-4EF3-8455-6955D9A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277-A931-494D-A97F-F172862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DC9-8344-4F6C-9B95-3B02111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356-8FE7-4D40-885E-C483F85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548-E919-42E1-944C-6D0CFF9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52C-72FF-4D56-99CC-91C8C2B6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5FA2-7E1E-4B63-866D-A169712437C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Haciendo Comparaciones</a:t>
            </a:r>
            <a:br>
              <a:rPr sz="4400"/>
            </a:b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s-AR" sz="3600" spc="-1" strike="noStrike">
                <a:solidFill>
                  <a:srgbClr val="660066"/>
                </a:solidFill>
                <a:latin typeface="Tahoma"/>
              </a:rPr>
              <a:t>Para Nivel Prima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egan Kerste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Rebecca Single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Carrie Hin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alerie Hugu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4572000" y="2971800"/>
            <a:ext cx="3956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22 0.16709 C -0.20365 0.02404 -0.1559 -0.11902 -0.09306 -0.1798 C -0.03021 -0.24058 0.06979 -0.26739 0.12552 -0.19829 C 0.18125 -0.12919 0.25729 0.2355 0.24184 0.23504 C 0.22639 0.23458 0.11146 -0.19598 0.03246 -0.20152 C -0.04653 -0.20707 -0.19045 0.13659 -0.23264 0.20107 C -0.27483 0.26555 -0.2191 0.18466 -0.22101 0.18558 C -0.22292 0.18651 -0.24045 0.20361 -0.24427 0.20731 E">
                                      <p:cBhvr>
                                        <p:cTn id="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805280" cy="2740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09480" y="5486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990720" y="5715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Cuatro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nueve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805280" cy="2740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533520" y="5486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1600200" y="5715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os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en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seis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609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4805640" cy="2740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2286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1828800" y="5715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Ocho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uno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3808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0"/>
          <p:cNvGrpSpPr/>
          <p:nvPr/>
        </p:nvGrpSpPr>
        <p:grpSpPr>
          <a:xfrm>
            <a:off x="2557440" y="1184760"/>
            <a:ext cx="4135680" cy="3590280"/>
            <a:chOff x="2557440" y="1184760"/>
            <a:chExt cx="4135680" cy="3590280"/>
          </a:xfrm>
        </p:grpSpPr>
        <p:pic>
          <p:nvPicPr>
            <p:cNvPr id="308" name="Picture 1" descr="Raised Fist Clip Art"/>
            <p:cNvPicPr/>
            <p:nvPr/>
          </p:nvPicPr>
          <p:blipFill>
            <a:blip r:embed="rId1"/>
            <a:stretch/>
          </p:blipFill>
          <p:spPr>
            <a:xfrm rot="6621600">
              <a:off x="3507120" y="920520"/>
              <a:ext cx="1639080" cy="31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Raised Fist Clip Art"/>
            <p:cNvPicPr/>
            <p:nvPr/>
          </p:nvPicPr>
          <p:blipFill>
            <a:blip r:embed="rId2"/>
            <a:stretch/>
          </p:blipFill>
          <p:spPr>
            <a:xfrm flipH="1" rot="14978400">
              <a:off x="4104000" y="1872360"/>
              <a:ext cx="1639080" cy="31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7"/>
            <p:cNvSpPr/>
            <p:nvPr/>
          </p:nvSpPr>
          <p:spPr>
            <a:xfrm>
              <a:off x="2590920" y="1676520"/>
              <a:ext cx="745560" cy="25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5883840" y="1849320"/>
              <a:ext cx="745560" cy="25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2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3048120" y="1447920"/>
            <a:ext cx="3124080" cy="297180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igual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a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762120" y="5943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1828800" y="5715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iez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iqual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diez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990720" y="4567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15228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 10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&amp;M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j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# ____ amarill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# ____ azu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_________ es ________ que/a _________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4038480" y="3429000"/>
            <a:ext cx="1143000" cy="1066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1981080" y="18288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6400800" y="1676520"/>
            <a:ext cx="304920" cy="30456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2743200" y="20574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2209680" y="23623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1600200" y="2438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2514600" y="2819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1981080" y="29718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6858000" y="2209680"/>
            <a:ext cx="30492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6324480" y="2209680"/>
            <a:ext cx="30492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2d44a4"/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914400" y="349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6400800" y="3497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TextBox 16"/>
          <p:cNvSpPr/>
          <p:nvPr/>
        </p:nvSpPr>
        <p:spPr>
          <a:xfrm>
            <a:off x="3962520" y="2736720"/>
            <a:ext cx="1600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3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Box 17"/>
          <p:cNvSpPr/>
          <p:nvPr/>
        </p:nvSpPr>
        <p:spPr>
          <a:xfrm>
            <a:off x="838080" y="47163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Se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Box 18"/>
          <p:cNvSpPr/>
          <p:nvPr/>
        </p:nvSpPr>
        <p:spPr>
          <a:xfrm>
            <a:off x="3352680" y="47023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mayor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Box 19"/>
          <p:cNvSpPr/>
          <p:nvPr/>
        </p:nvSpPr>
        <p:spPr>
          <a:xfrm>
            <a:off x="6477120" y="4702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cuatro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://openclipart.org/people/xeolhades/xeolhades_mouth.png"/>
          <p:cNvPicPr/>
          <p:nvPr/>
        </p:nvPicPr>
        <p:blipFill>
          <a:blip r:embed="rId1"/>
          <a:stretch/>
        </p:blipFill>
        <p:spPr>
          <a:xfrm>
            <a:off x="1905120" y="335268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úmeros con sí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,2,3,4,5……         &gt;,&lt;,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, habla, escribe sí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asamos los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685800" y="3733920"/>
            <a:ext cx="1828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Picture 4" descr="C:\Program Files\Microsoft Office\MEDIA\CAGCAT10\j0299125.wmf"/>
          <p:cNvPicPr/>
          <p:nvPr/>
        </p:nvPicPr>
        <p:blipFill>
          <a:blip r:embed="rId4"/>
          <a:stretch/>
        </p:blipFill>
        <p:spPr>
          <a:xfrm>
            <a:off x="1066680" y="31240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689280" y="3276720"/>
            <a:ext cx="730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aflourescentadolescent.files.wordpress.com/2010/05/animal-bands1.jpg"/>
          <p:cNvPicPr/>
          <p:nvPr/>
        </p:nvPicPr>
        <p:blipFill>
          <a:blip r:embed="rId1"/>
          <a:stretch/>
        </p:blipFill>
        <p:spPr>
          <a:xfrm>
            <a:off x="4800600" y="380880"/>
            <a:ext cx="35910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1"/>
          <p:cNvGrpSpPr/>
          <p:nvPr/>
        </p:nvGrpSpPr>
        <p:grpSpPr>
          <a:xfrm>
            <a:off x="-2209680" y="-1752480"/>
            <a:ext cx="5876640" cy="5943600"/>
            <a:chOff x="-2209680" y="-1752480"/>
            <a:chExt cx="5876640" cy="5943600"/>
          </a:xfrm>
        </p:grpSpPr>
        <p:pic>
          <p:nvPicPr>
            <p:cNvPr id="220" name="Picture 2" descr="http://aflourescentadolescent.files.wordpress.com/2010/05/animal-bands1.jpg"/>
            <p:cNvPicPr/>
            <p:nvPr/>
          </p:nvPicPr>
          <p:blipFill>
            <a:blip r:embed="rId2"/>
            <a:stretch/>
          </p:blipFill>
          <p:spPr>
            <a:xfrm>
              <a:off x="76320" y="-1752480"/>
              <a:ext cx="35906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9"/>
            <p:cNvSpPr/>
            <p:nvPr/>
          </p:nvSpPr>
          <p:spPr>
            <a:xfrm>
              <a:off x="0" y="-1752480"/>
              <a:ext cx="3657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-2209680" y="304920"/>
              <a:ext cx="3657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5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44956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800600" y="22096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Picture 2" descr="http://newleafnews.files.wordpress.com/2009/08/rebounder_kara-exercising-mini-trampoline.jpg"/>
          <p:cNvPicPr/>
          <p:nvPr/>
        </p:nvPicPr>
        <p:blipFill>
          <a:blip r:embed="rId1"/>
          <a:stretch/>
        </p:blipFill>
        <p:spPr>
          <a:xfrm>
            <a:off x="6172200" y="2057400"/>
            <a:ext cx="1371600" cy="2073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jumpingtrampoline.com/images/16-5-main.jpg"/>
          <p:cNvPicPr/>
          <p:nvPr/>
        </p:nvPicPr>
        <p:blipFill>
          <a:blip r:embed="rId2"/>
          <a:stretch/>
        </p:blipFill>
        <p:spPr>
          <a:xfrm>
            <a:off x="609480" y="1523880"/>
            <a:ext cx="3962520" cy="461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1600200" y="914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Picture 2" descr="http://www.yugatech.com/blog/wp-content/uploads/2006/09/ipod-nano.jpg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cheepees.ca/upload/ipod-nano-pink.png"/>
          <p:cNvPicPr/>
          <p:nvPr/>
        </p:nvPicPr>
        <p:blipFill>
          <a:blip r:embed="rId2"/>
          <a:stretch/>
        </p:blipFill>
        <p:spPr>
          <a:xfrm>
            <a:off x="1219320" y="1792440"/>
            <a:ext cx="2241360" cy="2779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5867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Cuá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9625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09480" y="183816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Un bols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queño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d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M y M’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5257800" y="1752480"/>
            <a:ext cx="31240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Un bolso </a:t>
            </a:r>
            <a:r>
              <a:rPr b="1" lang="en-US" sz="4800" spc="-1" strike="noStrike">
                <a:solidFill>
                  <a:srgbClr val="40458c"/>
                </a:solidFill>
                <a:latin typeface="Tahoma"/>
              </a:rPr>
              <a:t>grand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d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 y M’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Picture 9" descr="big m and m.jpg"/>
          <p:cNvPicPr/>
          <p:nvPr/>
        </p:nvPicPr>
        <p:blipFill>
          <a:blip r:embed="rId1"/>
          <a:stretch/>
        </p:blipFill>
        <p:spPr>
          <a:xfrm>
            <a:off x="4952880" y="36068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big m and m.jpg"/>
          <p:cNvPicPr/>
          <p:nvPr/>
        </p:nvPicPr>
        <p:blipFill>
          <a:blip r:embed="rId2"/>
          <a:stretch/>
        </p:blipFill>
        <p:spPr>
          <a:xfrm>
            <a:off x="1523880" y="42926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Users\Megan PC\AppData\Local\Microsoft\Windows\Temporary Internet Files\Content.IE5\KZ06NMT7\MC900433817[1].png"/>
          <p:cNvPicPr/>
          <p:nvPr/>
        </p:nvPicPr>
        <p:blipFill>
          <a:blip r:embed="rId3"/>
          <a:stretch/>
        </p:blipFill>
        <p:spPr>
          <a:xfrm>
            <a:off x="7315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¡Les presento a ALE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24360" cy="4489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 flipH="1">
            <a:off x="1447920" y="1905120"/>
            <a:ext cx="30240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http://openclipart.org/people/xeolhades/xeolhades_mouth.png"/>
          <p:cNvPicPr/>
          <p:nvPr/>
        </p:nvPicPr>
        <p:blipFill>
          <a:blip r:embed="rId1"/>
          <a:stretch/>
        </p:blipFill>
        <p:spPr>
          <a:xfrm>
            <a:off x="1905120" y="335268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úmeros con sí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,2,3,4,5……         &gt;,&lt;,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, habla, escribe sí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85800" y="3733920"/>
            <a:ext cx="1828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4" descr="C:\Program Files\Microsoft Office\MEDIA\CAGCAT10\j0299125.wmf"/>
          <p:cNvPicPr/>
          <p:nvPr/>
        </p:nvPicPr>
        <p:blipFill>
          <a:blip r:embed="rId4"/>
          <a:stretch/>
        </p:blipFill>
        <p:spPr>
          <a:xfrm>
            <a:off x="1066680" y="31240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689280" y="3276720"/>
            <a:ext cx="730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9"/>
          <p:cNvGrpSpPr/>
          <p:nvPr/>
        </p:nvGrpSpPr>
        <p:grpSpPr>
          <a:xfrm>
            <a:off x="7143840" y="3844800"/>
            <a:ext cx="1650600" cy="1472760"/>
            <a:chOff x="7143840" y="3844800"/>
            <a:chExt cx="1650600" cy="1472760"/>
          </a:xfrm>
        </p:grpSpPr>
        <p:pic>
          <p:nvPicPr>
            <p:cNvPr id="254" name="Picture 1" descr="Raised Fist Clip Art"/>
            <p:cNvPicPr/>
            <p:nvPr/>
          </p:nvPicPr>
          <p:blipFill>
            <a:blip r:embed="rId1"/>
            <a:stretch/>
          </p:blipFill>
          <p:spPr>
            <a:xfrm rot="6622200">
              <a:off x="7509240" y="3755520"/>
              <a:ext cx="68292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Raised Fist Clip Art"/>
            <p:cNvPicPr/>
            <p:nvPr/>
          </p:nvPicPr>
          <p:blipFill>
            <a:blip r:embed="rId2"/>
            <a:stretch/>
          </p:blipFill>
          <p:spPr>
            <a:xfrm flipH="1" rot="14977800">
              <a:off x="7745760" y="4151520"/>
              <a:ext cx="682920" cy="12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"/>
            <p:cNvSpPr/>
            <p:nvPr/>
          </p:nvSpPr>
          <p:spPr>
            <a:xfrm>
              <a:off x="7162920" y="4038480"/>
              <a:ext cx="295200" cy="107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8467920" y="4110480"/>
              <a:ext cx="295200" cy="107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labras de 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or qu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bigger tha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or qu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small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gual 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 equal 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ison Intro Vi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7315200" y="1755720"/>
            <a:ext cx="1197000" cy="682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5105520" y="2971800"/>
            <a:ext cx="1197000" cy="682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6324480" y="13716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324480" y="25909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&lt;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6324480" y="373392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586728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bo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Straight Connector 11"/>
          <p:cNvSpPr/>
          <p:nvPr/>
        </p:nvSpPr>
        <p:spPr>
          <a:xfrm>
            <a:off x="838080" y="2743200"/>
            <a:ext cx="762012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838080" y="3960720"/>
            <a:ext cx="762012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962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*Escribe en Notas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Picture 8" descr="http://www.sunlink.ucf.edu/presentations/fetc2004/images/writing.jpg"/>
          <p:cNvPicPr/>
          <p:nvPr/>
        </p:nvPicPr>
        <p:blipFill>
          <a:blip r:embed="rId5"/>
          <a:stretch/>
        </p:blipFill>
        <p:spPr>
          <a:xfrm>
            <a:off x="3429000" y="0"/>
            <a:ext cx="609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07378 -0.00579 E">
                                      <p:cBhvr>
                                        <p:cTn id="18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-0.00578 L 0.00122 -0.00046 E">
                                      <p:cBhvr>
                                        <p:cTn id="193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0.08455 -0.00532 E">
                                      <p:cBhvr>
                                        <p:cTn id="21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0532 L 0.25 -1.85185E-006 E">
                                      <p:cBhvr>
                                        <p:cTn id="21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autoRev="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12916 -0.00555 E">
                                      <p:cBhvr>
                                        <p:cTn id="233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9"/>
          <p:cNvSpPr/>
          <p:nvPr/>
        </p:nvSpPr>
        <p:spPr>
          <a:xfrm>
            <a:off x="3048120" y="1447920"/>
            <a:ext cx="3047760" cy="29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4805640" cy="2740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 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590920" y="4419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342900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286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crib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828800" y="5715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Cinco es </a:t>
            </a:r>
            <a:r>
              <a:rPr b="0" lang="en-US" sz="48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 que tres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28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3:26:26Z</dcterms:created>
  <dc:creator>Rebecca</dc:creator>
  <dc:description/>
  <dc:language>en-US</dc:language>
  <cp:lastModifiedBy>EM250</cp:lastModifiedBy>
  <dcterms:modified xsi:type="dcterms:W3CDTF">2010-07-19T17:00:40Z</dcterms:modified>
  <cp:revision>55</cp:revision>
  <dc:subject/>
  <dc:title>PowerPoint Presentation</dc:title>
</cp:coreProperties>
</file>